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173-BD5E-421C-A630-A0C61F47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1C6-E808-4865-9B2D-31C9C8B0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87BEB-D4A4-4A84-AD47-74E89DCC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F812A-15BD-48B2-999D-F9302810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4809E-A270-46DF-9BE0-FB9C0A9B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0E652-6E08-442A-AA98-38DA9C22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85DE4-0B13-4745-AFA3-11345D6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593D2-C0D2-45CD-A6A3-95FFCA2F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C18AB-22CA-4B90-ABAA-7B8AC3FC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16E6C-37FC-4759-AE85-828D8CE7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2AD74-D83A-4A07-9FA2-E8418CF6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206F4-B172-4120-B910-A9CE4557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92B-3AA3-4364-889C-E6EC6834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676F9-7001-47B7-9C5F-DA96538C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60286-E3B5-4641-A668-C5E727F7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23A50-CEA3-4D3B-8267-C17E381A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E46D0-C992-42D4-A452-ADAC0420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3BB15-5880-4188-BAFC-9C68BD89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01514-8867-40BD-8D08-3B9C0965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F6DB4-652F-4FFC-B602-04A762D6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E183A-718F-406C-9E97-81503E8A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6DC58-EAF5-4F73-ABFA-BDF079C7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84A3E-CADF-45E9-90DD-0BCE00B3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588-63EF-4954-A82D-A69FEC77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583EB-2E08-4D90-A582-80F46FF1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57374-7B44-4184-85AA-B79EFE1B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23183-3DF5-4A32-A24D-261C8595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5FBCD-EFC9-4EE4-87EF-D286D8C9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7256A-2555-444F-BF61-3C5C98A9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604D3-3611-4A1B-949B-500E2AD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271AC-0295-4087-85A5-CAFBEB6E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0DE4C-1F63-4601-B3A7-139698C3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C4605-BFD6-4D65-A48F-DB07F44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EA1DC-8B09-49D6-A463-6694A1E2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EC75-A583-482B-9C77-8058987E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8ED46-F71E-446F-86FE-91A3C587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59115-B88E-42BF-8DFD-7BF57B96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CB021-7448-4A7C-B1D1-F8A09B39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57A20-0E01-4CEF-9E41-E64E9075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D49CD-8364-47DF-BDC2-B4249DAA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DE411-F211-44A9-A926-E8ADB00F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31B5D-FCE7-4A87-B9FC-A77D9690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1F9B5-34B8-4534-86AB-7CF2B27B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DAA75-37AD-4302-8377-0001BCB3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740D9-D784-4408-B272-9519FD29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E532-640D-4CC1-859F-B0D75B29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79A7F-D004-43EA-91A9-74E98DB0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DDF78-3DF0-44FC-907D-A5FB939B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B720A-8FD5-44B7-BCF0-C7C0D17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E2491-6EFC-439F-972E-023CC470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BD497-1F40-4D08-AEF9-6E3C6E8C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42DE2-41A2-4F05-AED1-554107F1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D240E-48EC-44B4-BECF-7FCE0A09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7E640-1971-40F7-B4CF-F5437B46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1A52F-D8CC-4EAA-B09C-B881C15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1B38E-DBB3-4923-AA0B-9574AA0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D876-8012-4400-9367-2FA2ACFB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013EE-3833-42AD-B88D-F5E5FE02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6CE78-FBDD-41CA-B9CE-720BB56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E28A4-4169-4840-B9EC-21528F46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D54B6-6A36-44DA-B923-166869F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53FC2-1023-4F74-A681-3CDFA899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DCF35-CC98-4A62-B982-BA7E4E63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07B00-E580-4807-84C8-180C7454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8EE15-D96A-46AC-8EF3-68F67D29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FAC48-D6B6-418B-838E-B4A8C6CE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7A519-35E8-4AAC-B054-088CA236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2BA7-7715-4AA8-A077-6F39BD6C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DE15E-4745-41B7-9AEE-4CAF755B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7C566-AEE2-4172-838E-ACE3086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B1F8E-B93E-489D-8176-95712CF5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63411-3723-46C8-9D34-8E914125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0A4CA-4BDF-4064-A7DD-3F2C5A96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AC755-E52E-4380-9B27-BD9BB9E5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DE9C2-0686-4EAC-8B37-9BB4D105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B4AED-A36E-49BA-B852-B98376DD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B92B9-E132-4461-A03E-FEB6D618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A0FE3-2AD0-4A30-8AD6-52039FF0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76E4-415B-4167-8B5D-901D04F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3FB47-D6A6-4553-99AB-817453AE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03466-136E-40C7-B945-20973E88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E9B54-7151-4182-A82D-4BEF4FF7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95A7C-9444-441A-ABF6-F6C13333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001B5-9762-49CB-B80D-D32D315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17AEC-6A83-42C6-B01B-DFC263F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98396-1856-458A-B5F3-F69BE91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7D5A1-77F8-40E3-866E-423B3BA5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382AE-3419-449F-8AE6-24C6E3A4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96955-F93C-4C33-BA4D-154AD557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973A-F07B-4D87-945B-2E74B5DE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B46C8-B186-4BAD-BA0F-45546BF2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2AEAB-F7EF-4529-AF14-E492D8A2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83F73-D815-4D73-A7C2-FAFF4B21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4AB73-2B23-489F-A55E-B1D6C81A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DFEC9-0643-4C05-A6FB-608FAC43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4B84C-897F-4F5A-972D-14F916F5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8EB4E-309F-4EEF-A2DD-EF8664E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088C2-6089-4796-B7FB-F1568750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938F1-86E9-43D9-8AD8-D4FF8EA0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201E4-4882-432F-A43C-95721F23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F428-14C5-4C1D-B73D-B533F5DD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0370A-86C7-4CDE-B250-1DACC523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E1D88-9F9E-4627-8ED7-3F4F2E89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6E044-0D70-49EA-8D14-9AA3AC58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E6FD2-21B9-4CF9-A68C-0A21C5FF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0986D3-EE16-457B-860F-FE099B09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F52FB-1A31-49CF-977F-E220B73B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80309-C8B4-42D2-A323-C6D60BFF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97A8C-FF3E-46E8-9956-33C5BB2B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020B3-ABCC-4145-AFFD-B137CA55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D68FD-58E8-4600-A766-C15E4019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CE9-5266-4C71-8A29-AE0E70C9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80E5-8977-4577-A8E7-F83ECA1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A88B7-C90F-4264-ADB3-8C02CBDE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6726B-0D19-4AC1-B9DC-A56338F9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77388-6A38-4476-BC3A-B7B53D1E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D0A85-939C-4F49-929C-17589D03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33F3AF-0AD9-46A2-8733-02DCDCB2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E9A7-93FD-4A68-BFEC-422B4F3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DA86-B644-4F69-BAAB-2B457C2D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C93A-82FD-4802-90CF-0471E4B9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AFE6-749B-48C5-AD01-44A85101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6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345B-2E72-4D4B-ACCD-4AA8C217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5A47-3A6F-46F9-AF31-27E93A41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8C30-03D1-420D-8995-B2A356C3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00E4-938E-48C4-9DFA-1135DDE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580E-544E-4721-A3C1-84D3280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EDF-599C-4E3A-A641-658365A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525A-3E1D-45AD-BA7C-6E26A987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1607-2BBC-40E5-8F05-5554E8E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E09B-4203-4DC7-B6B2-45AE5E9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01D6-141D-4FEE-B337-E4B61AE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1BE5-C93E-4916-8AB7-C164037F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005A-2E22-4533-94BF-1D9EF0C2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D0CF-AF9C-4D29-B7AB-46C7B277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2EC3-96C1-4062-9A96-EA9A3701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15A42-C98B-408D-8268-3CE6C813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0270F-9D35-491D-A462-57271CE2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782-02E4-4DF6-857E-57B3E447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1324-FA26-454F-BC9E-5B9BCF50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0CD7-2142-43D8-B8BF-E3E53A6C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13FE-BFA3-4657-839D-5E18F8AB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1339-768E-4C6E-ABC4-4585154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E679-AB06-45F2-97F2-7061712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B8FC3-1994-4152-A64E-4EBD7AF5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35AA-D92E-40D7-89A6-3B9166A1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9974-684D-4A23-A9E3-E2E28FDE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0381-F390-46B9-83E8-7DE6DC47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A43DC-F737-4C78-9A58-01A2157E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A7D-3C2F-41EA-9AB8-AD8DD2CF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4870-F849-43C6-B886-87AF4D62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4D57A-6225-42CE-81B9-473CCDAF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E5EE4-BC00-4311-8B8A-4F48328E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7CF17-4093-49FA-BF0C-56F79C7F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E72D-05C5-4DDF-87DE-CD116F56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B5EE-9B75-4FDD-A3B6-65766704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E4E8D-DFCC-4B25-A0BC-2B54DB72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B645-7A31-41AC-A223-1A72649B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6C36-1772-4838-B61A-CB3E8A75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8D01-399E-4EC9-B016-67F97AEC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2CA-980C-4B91-B942-AFF6EDA6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8CA7-1449-40E1-AB96-FD2F498C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90E13-C357-47E4-9677-772D8A0F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992AE-6B5B-4C94-B9DC-D61EE539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87389-949D-4A10-B113-F0822E2A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BC892-0175-4F8A-9654-B1316308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23979-6EB9-49E4-91BA-52E67E64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5B12-AF30-4377-B5A9-59949402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ACF4-B29D-4005-B1D0-4B7EDF9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8B71-FCE0-4B94-ACCD-A53BD198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0827C-333D-40C3-8E23-3A22683C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B16-EB04-4F03-A935-FB4209F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C608A-B1DA-4CD3-94FC-ACA45EDC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A8A22-6568-4724-841D-320A738D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BEB93-D4A7-4326-A9C2-5A617BFB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045D-C811-4DA6-85B5-B34360DB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7947B-4EDB-42DA-AE1C-2F275D8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85A3-116A-48AB-AB78-E3F3C11A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3FE4-1977-457C-8AF6-A5995E53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C1871-3C25-4C87-BDC6-56BF3D03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B6E7B-E789-4C7F-839E-22F98169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CB64-D825-4068-9BB2-DAF5F59E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D2E-8F1B-4080-8867-FBCF66B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F4DCA-7FBA-4940-BBE7-3A32F94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AFE94-C7E4-4C8B-854B-0326B86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D3A7-AFF5-4F79-8FDD-260BBA2A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8DC1-277A-467D-852A-D2A0CC24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8B148-A356-4C6E-9E69-5380C53D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728C5-9D25-42E8-9918-C4DE3294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D2257-883E-4540-BBAD-EE247EF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0119-3A8B-4820-B272-EC606F5B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337B6-F166-49D5-A5FF-DEE70D9D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53895-75C2-4675-A5D3-D2317691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1B6-A245-4D8D-A0CC-7E295008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520560"/>
            <a:ext cx="6683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F3232-F87C-4EFB-887D-B5E7F15A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4185E-1C71-43C8-8E77-F3CCC4CB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851A-9425-4940-A93B-EF4E9A7A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7A49C-03BF-4477-972D-C9688C8B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1480" y="3470040"/>
            <a:ext cx="6686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A2DCD-8D83-4557-AA14-E17659EE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67960" y="1778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148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67960" y="3470040"/>
            <a:ext cx="32630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622C4-67F6-4A20-BDED-F6A326DC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022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63080" y="1778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14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2022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63080" y="3470040"/>
            <a:ext cx="21528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B1D3-9DA6-427A-BA91-41E500BC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2A455-C410-4CAB-B1CD-0F4F3E1D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2F637-0800-4D9E-9D56-E91CC457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9FA6D-07BB-4FA5-88F4-150BE0AE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17623-678C-43C7-B120-287EE126602B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621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2880" y="409248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98160" y="41529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ABB0C-E179-4B65-BE21-2C23519F8D40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690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2880" y="264780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98160" y="2703600"/>
            <a:ext cx="585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3AC8B-08DD-42D0-858D-88F0C25F098D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759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2880" y="264780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51120" y="53964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335800" y="242100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98160" y="2703600"/>
            <a:ext cx="585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B9558-6F8D-4D95-B1D8-41EB0C2C0EE7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830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2880" y="409248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98160" y="41529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E73F0-81EF-42B9-B2FF-2CD42B809174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899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2880" y="409248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1851120" y="53964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8335800" y="242100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98160" y="41529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1EC89-2071-4CB6-BDA3-04E3EC6A7633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970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2880" y="409248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98160" y="41529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68774-0829-449A-964A-089DA9E79103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039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43FF1-936E-481C-B981-A5EF1F923881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108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F6404-6B17-4635-8E9C-BE0C07065A48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177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03" name="矩形 11"/>
          <p:cNvGrpSpPr/>
          <p:nvPr/>
        </p:nvGrpSpPr>
        <p:grpSpPr>
          <a:xfrm>
            <a:off x="0" y="5334120"/>
            <a:ext cx="9144000" cy="377640"/>
            <a:chOff x="0" y="5334120"/>
            <a:chExt cx="9144000" cy="377640"/>
          </a:xfrm>
        </p:grpSpPr>
        <p:pic>
          <p:nvPicPr>
            <p:cNvPr id="1204" name="矩形 11" descr=""/>
            <p:cNvPicPr/>
            <p:nvPr/>
          </p:nvPicPr>
          <p:blipFill>
            <a:blip r:embed="rId3"/>
            <a:stretch/>
          </p:blipFill>
          <p:spPr>
            <a:xfrm>
              <a:off x="0" y="5334120"/>
              <a:ext cx="914400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"/>
            <p:cNvSpPr/>
            <p:nvPr/>
          </p:nvSpPr>
          <p:spPr>
            <a:xfrm>
              <a:off x="0" y="5334120"/>
              <a:ext cx="9144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06" name="矩形 9"/>
          <p:cNvGrpSpPr/>
          <p:nvPr/>
        </p:nvGrpSpPr>
        <p:grpSpPr>
          <a:xfrm>
            <a:off x="0" y="-23760"/>
            <a:ext cx="9144000" cy="792000"/>
            <a:chOff x="0" y="-23760"/>
            <a:chExt cx="9144000" cy="792000"/>
          </a:xfrm>
        </p:grpSpPr>
        <p:pic>
          <p:nvPicPr>
            <p:cNvPr id="1207" name="矩形 9" descr=""/>
            <p:cNvPicPr/>
            <p:nvPr/>
          </p:nvPicPr>
          <p:blipFill>
            <a:blip r:embed="rId4"/>
            <a:stretch/>
          </p:blipFill>
          <p:spPr>
            <a:xfrm>
              <a:off x="0" y="-21960"/>
              <a:ext cx="9144000" cy="7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"/>
            <p:cNvSpPr/>
            <p:nvPr/>
          </p:nvSpPr>
          <p:spPr>
            <a:xfrm>
              <a:off x="0" y="-23760"/>
              <a:ext cx="9144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7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248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9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0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1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2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3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4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5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6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7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8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9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60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261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2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3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4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5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6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7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8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9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0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1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2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73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74" name="矩形 11"/>
          <p:cNvGrpSpPr/>
          <p:nvPr/>
        </p:nvGrpSpPr>
        <p:grpSpPr>
          <a:xfrm>
            <a:off x="0" y="5334120"/>
            <a:ext cx="9144000" cy="377640"/>
            <a:chOff x="0" y="5334120"/>
            <a:chExt cx="9144000" cy="377640"/>
          </a:xfrm>
        </p:grpSpPr>
        <p:pic>
          <p:nvPicPr>
            <p:cNvPr id="1275" name="矩形 11" descr=""/>
            <p:cNvPicPr/>
            <p:nvPr/>
          </p:nvPicPr>
          <p:blipFill>
            <a:blip r:embed="rId3"/>
            <a:stretch/>
          </p:blipFill>
          <p:spPr>
            <a:xfrm>
              <a:off x="0" y="5334120"/>
              <a:ext cx="914400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0" y="5334120"/>
              <a:ext cx="9144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77" name="矩形 9"/>
          <p:cNvGrpSpPr/>
          <p:nvPr/>
        </p:nvGrpSpPr>
        <p:grpSpPr>
          <a:xfrm>
            <a:off x="0" y="-23760"/>
            <a:ext cx="9144000" cy="792000"/>
            <a:chOff x="0" y="-23760"/>
            <a:chExt cx="9144000" cy="792000"/>
          </a:xfrm>
        </p:grpSpPr>
        <p:pic>
          <p:nvPicPr>
            <p:cNvPr id="1278" name="矩形 9" descr=""/>
            <p:cNvPicPr/>
            <p:nvPr/>
          </p:nvPicPr>
          <p:blipFill>
            <a:blip r:embed="rId4"/>
            <a:stretch/>
          </p:blipFill>
          <p:spPr>
            <a:xfrm>
              <a:off x="0" y="-21960"/>
              <a:ext cx="9144000" cy="7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0" y="-23760"/>
              <a:ext cx="9144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80" name="图片 37" descr=""/>
          <p:cNvPicPr/>
          <p:nvPr/>
        </p:nvPicPr>
        <p:blipFill>
          <a:blip r:embed="rId5"/>
          <a:stretch/>
        </p:blipFill>
        <p:spPr>
          <a:xfrm>
            <a:off x="7815240" y="0"/>
            <a:ext cx="1206360" cy="841320"/>
          </a:xfrm>
          <a:prstGeom prst="rect">
            <a:avLst/>
          </a:prstGeom>
          <a:ln w="0">
            <a:noFill/>
          </a:ln>
        </p:spPr>
      </p:pic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69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3603600"/>
            <a:ext cx="1308240" cy="64764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98160" y="3774600"/>
            <a:ext cx="585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3ED95-BB8F-46BA-8742-112704F45399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320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1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2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3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4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5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6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7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8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9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0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1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32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333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4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5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6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7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8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9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0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1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2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3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4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45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46" name="矩形 11"/>
          <p:cNvGrpSpPr/>
          <p:nvPr/>
        </p:nvGrpSpPr>
        <p:grpSpPr>
          <a:xfrm>
            <a:off x="0" y="5334120"/>
            <a:ext cx="9144000" cy="377640"/>
            <a:chOff x="0" y="5334120"/>
            <a:chExt cx="9144000" cy="377640"/>
          </a:xfrm>
        </p:grpSpPr>
        <p:pic>
          <p:nvPicPr>
            <p:cNvPr id="1347" name="矩形 11" descr=""/>
            <p:cNvPicPr/>
            <p:nvPr/>
          </p:nvPicPr>
          <p:blipFill>
            <a:blip r:embed="rId3"/>
            <a:stretch/>
          </p:blipFill>
          <p:spPr>
            <a:xfrm>
              <a:off x="0" y="5334120"/>
              <a:ext cx="914400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"/>
            <p:cNvSpPr/>
            <p:nvPr/>
          </p:nvSpPr>
          <p:spPr>
            <a:xfrm>
              <a:off x="0" y="5334120"/>
              <a:ext cx="9144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138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32A4E-3682-4C15-8CCB-1E25E24F730A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207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2880" y="2647800"/>
            <a:ext cx="1192320" cy="4240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98160" y="2703600"/>
            <a:ext cx="585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BA033-99A9-4910-8B69-7E65087700BA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276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11DF8-9431-4D5C-B6C4-1B07E6E04687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345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A2917-7550-40AB-8887-12177C4064D4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414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B0AE0-BDB2-41D9-8AB1-9F5876021D06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483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2C1E8-9566-42ED-A002-9E42ECA1E6E4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190440"/>
            <a:ext cx="2138400" cy="5532480"/>
            <a:chOff x="0" y="190440"/>
            <a:chExt cx="2138400" cy="5532480"/>
          </a:xfrm>
        </p:grpSpPr>
        <p:sp>
          <p:nvSpPr>
            <p:cNvPr id="552" name="Freeform 11"/>
            <p:cNvSpPr/>
            <p:nvPr/>
          </p:nvSpPr>
          <p:spPr>
            <a:xfrm>
              <a:off x="0" y="2145960"/>
              <a:ext cx="75240" cy="5216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96120" y="2630520"/>
              <a:ext cx="484920" cy="1935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605160" y="4539600"/>
              <a:ext cx="456840" cy="11833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719640" y="5420160"/>
              <a:ext cx="128520" cy="3027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5240" y="2667600"/>
              <a:ext cx="616320" cy="27741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6560" y="190440"/>
              <a:ext cx="79560" cy="24400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8680" y="2453400"/>
              <a:ext cx="58680" cy="4114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77080" y="4565880"/>
              <a:ext cx="142560" cy="854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81400" y="1165680"/>
              <a:ext cx="1557000" cy="337356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91920" y="5442120"/>
              <a:ext cx="121320" cy="28080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77080" y="4466520"/>
              <a:ext cx="27720" cy="184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637200" y="5204160"/>
              <a:ext cx="178920" cy="5187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0520" y="0"/>
            <a:ext cx="1766880" cy="5711760"/>
            <a:chOff x="20520" y="0"/>
            <a:chExt cx="1766880" cy="571176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370440" cy="366768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12560" y="3597840"/>
              <a:ext cx="317520" cy="13172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754560" y="4886280"/>
              <a:ext cx="322920" cy="8254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90960" y="3637800"/>
              <a:ext cx="413640" cy="18633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50640" y="1074960"/>
              <a:ext cx="130680" cy="2522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833400" y="5477040"/>
              <a:ext cx="100440" cy="2347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76560" y="3423600"/>
              <a:ext cx="61560" cy="4262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730080" y="2622240"/>
              <a:ext cx="1057320" cy="226404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04960" y="5501160"/>
              <a:ext cx="90360" cy="2106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730080" y="4915080"/>
              <a:ext cx="103320" cy="5619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730080" y="4811400"/>
              <a:ext cx="28440" cy="1897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754560" y="5269680"/>
              <a:ext cx="158040" cy="4420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36440" cy="5715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2880" y="594360"/>
            <a:ext cx="1192320" cy="42228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520560"/>
            <a:ext cx="668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1480" y="1778040"/>
            <a:ext cx="66866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0960" y="5108400"/>
            <a:ext cx="860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600" spc="-1" strike="noStrike">
                <a:solidFill>
                  <a:srgbClr val="898989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>
                <a:solidFill>
                  <a:srgbClr val="898989"/>
                </a:solidFill>
                <a:latin typeface="Times New Roman"/>
                <a:ea typeface="幼圆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1120" y="511344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98160" y="657360"/>
            <a:ext cx="585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1F0F6-8AB2-4CF9-A775-6F0A9FABD3B6}" type="slidenum">
              <a:rPr b="0" lang="zh-CN" sz="1500" spc="-1" strike="noStrike">
                <a:solidFill>
                  <a:srgbClr val="feffff"/>
                </a:solidFill>
                <a:latin typeface="Times New Roman"/>
                <a:ea typeface="幼圆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矩形 8"/>
          <p:cNvSpPr/>
          <p:nvPr/>
        </p:nvSpPr>
        <p:spPr>
          <a:xfrm>
            <a:off x="0" y="1903320"/>
            <a:ext cx="9144000" cy="1656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88" name="矩形 3"/>
          <p:cNvGrpSpPr/>
          <p:nvPr/>
        </p:nvGrpSpPr>
        <p:grpSpPr>
          <a:xfrm>
            <a:off x="755640" y="1901880"/>
            <a:ext cx="3530520" cy="1658880"/>
            <a:chOff x="755640" y="1901880"/>
            <a:chExt cx="3530520" cy="1658880"/>
          </a:xfrm>
        </p:grpSpPr>
        <p:pic>
          <p:nvPicPr>
            <p:cNvPr id="1389" name="矩形 3" descr=""/>
            <p:cNvPicPr/>
            <p:nvPr/>
          </p:nvPicPr>
          <p:blipFill>
            <a:blip r:embed="rId1"/>
            <a:stretch/>
          </p:blipFill>
          <p:spPr>
            <a:xfrm>
              <a:off x="755640" y="1901880"/>
              <a:ext cx="35305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0" name=""/>
            <p:cNvSpPr/>
            <p:nvPr/>
          </p:nvSpPr>
          <p:spPr>
            <a:xfrm>
              <a:off x="755640" y="1903320"/>
              <a:ext cx="35290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91" name="矩形 4"/>
          <p:cNvSpPr/>
          <p:nvPr/>
        </p:nvSpPr>
        <p:spPr>
          <a:xfrm>
            <a:off x="0" y="3495600"/>
            <a:ext cx="9144000" cy="222480"/>
          </a:xfrm>
          <a:prstGeom prst="rect">
            <a:avLst/>
          </a:prstGeom>
          <a:solidFill>
            <a:srgbClr val="f9d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2" name="标题 1"/>
          <p:cNvSpPr/>
          <p:nvPr/>
        </p:nvSpPr>
        <p:spPr>
          <a:xfrm>
            <a:off x="2341440" y="2308320"/>
            <a:ext cx="73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幼圆"/>
              </a:rPr>
              <a:t>访问工程师总结汇报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3" name="副标题 2"/>
          <p:cNvSpPr/>
          <p:nvPr/>
        </p:nvSpPr>
        <p:spPr>
          <a:xfrm>
            <a:off x="4500720" y="407664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汇报人：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4" name="副标题 2"/>
          <p:cNvSpPr/>
          <p:nvPr/>
        </p:nvSpPr>
        <p:spPr>
          <a:xfrm>
            <a:off x="5364000" y="4724280"/>
            <a:ext cx="21560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图示 1" descr=""/>
          <p:cNvPicPr/>
          <p:nvPr/>
        </p:nvPicPr>
        <p:blipFill>
          <a:blip r:embed="rId1"/>
          <a:stretch/>
        </p:blipFill>
        <p:spPr>
          <a:xfrm>
            <a:off x="457200" y="1328760"/>
            <a:ext cx="8229600" cy="3792600"/>
          </a:xfrm>
          <a:prstGeom prst="rect">
            <a:avLst/>
          </a:prstGeom>
          <a:ln w="0">
            <a:noFill/>
          </a:ln>
        </p:spPr>
      </p:pic>
      <p:sp>
        <p:nvSpPr>
          <p:cNvPr id="1396" name="TextBox 2"/>
          <p:cNvSpPr/>
          <p:nvPr/>
        </p:nvSpPr>
        <p:spPr>
          <a:xfrm>
            <a:off x="324000" y="873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汇报内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20"/>
          <p:cNvSpPr/>
          <p:nvPr/>
        </p:nvSpPr>
        <p:spPr>
          <a:xfrm>
            <a:off x="0" y="838080"/>
            <a:ext cx="4648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一、企业简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21"/>
          <p:cNvSpPr/>
          <p:nvPr/>
        </p:nvSpPr>
        <p:spPr>
          <a:xfrm>
            <a:off x="0" y="820800"/>
            <a:ext cx="4648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二、实践目的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53"/>
          <p:cNvSpPr/>
          <p:nvPr/>
        </p:nvSpPr>
        <p:spPr>
          <a:xfrm>
            <a:off x="6480" y="87156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三、实践成果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53"/>
          <p:cNvSpPr/>
          <p:nvPr/>
        </p:nvSpPr>
        <p:spPr>
          <a:xfrm>
            <a:off x="6480" y="87156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四、实践总结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矩形 4"/>
          <p:cNvSpPr/>
          <p:nvPr/>
        </p:nvSpPr>
        <p:spPr>
          <a:xfrm>
            <a:off x="0" y="1849320"/>
            <a:ext cx="914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2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de7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3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de7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4" name="TextBox 1"/>
          <p:cNvSpPr/>
          <p:nvPr/>
        </p:nvSpPr>
        <p:spPr>
          <a:xfrm>
            <a:off x="3708360" y="22575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a53010"/>
                </a:solidFill>
                <a:latin typeface="Arial"/>
                <a:ea typeface="微软雅黑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3:06Z</dcterms:created>
  <dc:creator>wangjing</dc:creator>
  <dc:description/>
  <dc:language>en-US</dc:language>
  <cp:lastModifiedBy>何鑫炜</cp:lastModifiedBy>
  <dcterms:modified xsi:type="dcterms:W3CDTF">2024-04-18T01:27:51Z</dcterms:modified>
  <cp:revision>229</cp:revision>
  <dc:subject/>
  <dc:title>PowerPoint 演示文稿</dc:title>
</cp:coreProperties>
</file>